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9BF-F2C9-40BE-85E6-7FE806C1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EB6-A55D-499E-B9F5-6128E8A2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458-AB51-4FD4-9F90-1FBC0FE4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689-C4B1-4B10-A1D5-223DC2B7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A95-D89F-4D3F-81D6-58DC4276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402-EBF3-497A-B26A-DD9A233F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437-82CB-4230-9BC1-5673FB7D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663-2AD3-445E-AD33-50F28730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1B3-57F4-4B17-A897-8CFF89AE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5A2-E200-4E3D-A4AD-9222F4A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078-ECCC-4472-8336-8EB6631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26F-32D0-4694-95E9-13E1C5E4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2FAD-9E52-4A75-BC75-96E7C0EBCBD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The Rural-Urban Fri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ri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ral-Urban fri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name given to the land at the edge of an urban area, where there is often a huge mixture of land u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science parks, business parks and industrial estates locate in the rural-urban fringe as the land is cheaper, there is room for expansion and they are closer to transport links to allow export and import of g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ri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orways and by-passes, such as the M25 and the Newbury by-pass have been built on the rural-urban fringe, much to the disgust of environmental groups who feel that the area should be kept as green a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reational land-uses such as golf courses and leisure parks have been established in the rural-urban fri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sing has also encroached into the rural-urban fringe, and small villages have grown as more people move out of the cities and commute to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Fri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-of-town shopping centres also find that the space available, good transport connections and cheap land encourage them to establish in the rural-urban fri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till occurs in the rural-urban fringe, although the farmers often come under great pressure to sell their land for develop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rmer will make far more money from a sale if there is already planning permission for building to occur on the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08:12Z</dcterms:created>
  <dc:creator>Dell_02</dc:creator>
  <dc:description/>
  <dc:language>en-US</dc:language>
  <cp:lastModifiedBy>Dell_02</cp:lastModifiedBy>
  <dcterms:modified xsi:type="dcterms:W3CDTF">2011-01-26T03:13:30Z</dcterms:modified>
  <cp:revision>1</cp:revision>
  <dc:subject/>
  <dc:title>The Rural-Urban Fringe</dc:title>
</cp:coreProperties>
</file>